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45F-F10C-4443-B069-EC0C13C7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63A6-5D70-4605-8161-8135C1090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xperience” is required jok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 on the Model-View-Controller thing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9E8-F7AF-4D49-87D5-E907D7986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0AF2-6F94-42A7-8F60-97E65DCAA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037-C8AC-4AD2-8646-9032DF99E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xperience” is required jok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se be in the same order as in the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907-8CA7-44C5-947A-8E7328251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E1F8-F60A-4FE5-8D30-8B9DD176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76DF-B79B-483B-B839-6A43D532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074E-D8A1-45D1-B3D0-90296AD7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CDB1-BF05-4E27-A1C9-E5374DB2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2CA9-221F-49DF-B3ED-A4A997D0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1659-C72B-4E27-8AC1-59F86BE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094A-245C-4AC1-87C9-0BA40983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7CE-60F1-44F5-9193-AEBB1B4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F4C8-7D35-4083-AD87-5F55E5E9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CB9-1496-4029-8D17-3B305F2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E3AC-FD46-4B0A-87BF-BD7CAA9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7B32-9E09-4A64-AB55-306E4C6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AC69-96E7-4605-A57F-9CAADCA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FD51-AFB8-4E6C-895E-87AA977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290-36F2-4043-BB98-1685E7F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A45B-DE34-4AE6-9C93-3481C09F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EB6-2161-4B96-8750-0C673023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902B-99FE-4C32-A27B-D41B80C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62AB-E7A9-4366-9993-6A77B27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9E71-8747-4CE5-84CB-3B58DB19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0DF7-6815-43A7-B45D-C1DE34E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DD6F-C0F9-4695-BD03-4AB1C48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9B93-F4D8-438D-8BA9-2CA68CD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1F3A-EFB3-4BB8-8602-B1CBA17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4F2-B371-455D-A8B3-B684E10AA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03C-F96A-4F1C-9A6A-86240CE99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4674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Programming With Graphical User Interfac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perience Requir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o create a GUI ap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yout the front-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d School: map stuff out on graph paper, then hand-code all the GUI el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: Use a GUI builder program that presents you with a ‘view of your program’, that allows you to ‘draw’ the buttons, check boxes, etc, etc directly onto your window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 the front-end to the back-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kage: external modules compiled in at link-time, vs. the IDE modifying the same files as the program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cturing a GUI Ap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nt-end: an event is triggered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user clicks a button, timer goes off, etc)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using the corresponding event handler to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handler then causes the core/internal application state to be 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’s core logic will then adjusts any relevant GUI elements (in order to represent the current state of the application visual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w: Onto Language-Specific Tutorials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1: Demystifying 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#2005: ‘split files’ thing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: Major idea of subclassing an existing (window/frame/dialog)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: overriding virtual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++: Semi-interesting MFC transition from procedural-land to OO-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2: Control Variables, App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 &amp; display the number of times that a button has been click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3: More Complex Elements: Slider Ba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++: ‘binding’ between raw variables, and the GUI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4: Events not caused by the us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r event: every X units of time, this event will be triggered (by the O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limit to how often this can be r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5: Input AND Output el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grammatic control over GUI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6: Creating new GUI el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Windows world, this is referred to as creating a ‘custom control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7: Separating elements into a libr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FC: .LIB (static linkage) vs. .DLL (dynamic link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#: Commonly done using DLLs.  Relatively easy to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va: .JAR f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nline at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http://www.alternitz.com/CCSC2007/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8: Container El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ubclas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Programming With Graphical User Interfac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sented b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Panitz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scadia Community Colle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ed on materials created b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vin Sung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versity of Washington, Bothe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ava Tutorial by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th Anderson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University of Washington, Seatt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++ tutorial created by William Frankhous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# tutorial created by Ethan Verral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Dr. Sung’s students) University of Washington, Bothe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d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quotes are from Kelvin Sung’s book, “</a:t>
            </a: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Essential Concepts for Building Interactive Computer Graphics Application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which will be available for purchase starting so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al of the tutor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4520" y="1677960"/>
            <a:ext cx="771516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 the underlying concepts, and become comfortable with 1 GUI AP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 API: Your choice of Java (Swing), C++ (MFC), or C# (WinFor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 == “Graphical User Interfac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I == “Application Programming Interfac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 the principles of moder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-driven, GUI-base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ve program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GUI-based app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4520" y="1447920"/>
            <a:ext cx="771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llection of routines that are driven by asynchronous, external even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user presses a keyboard button, or the user clicks on a button with the mouse, or a timer goes off, e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outines are organized around GUI el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Clicking on the onscreen representation of a button runs the routine for that button’s “button clicked” ev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is (normally) possible to reuse your event handlers (by parameterizing them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us, the routines are often called “event handler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Windows, element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tro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on Unix/X11, elements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idg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ttributes of a good GUI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ser’s Perspec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ly Plea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antically Meaning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s have obvious mea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s’ (re)actions support that mea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When a button has been clicked, but the mouse button has not yet been released, the button’s picture looks ‘depressed’, like a real button wou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ttributes of a good GUI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grammer’s Perspec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to allow registration of Event Handling rout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UI elements provide useful default behavi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‘depress when clicked’ animation, without programmer doing any 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UI elements can be customiz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I wa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utt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nge colors when depressed (then revert to normal color when the user releases the mouse butt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Custom event handling rout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ttributes of a good GUI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grammer’s Perspec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 elements maintain useful st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slider bar remembers where the ‘thumb’ 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pplication’s core logic can poll the element for this inf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 Elements each have a unique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that our application’s core logic can access the GUI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 framework provides a easy to use, but sophisticated, set of types for control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Object Oriented programming, this would be a set of classes, so that one can make use of the Button class’s full-featured, yet easy to use, function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28:01Z</dcterms:created>
  <dc:creator>mpanitz</dc:creator>
  <dc:description/>
  <dc:language>en-US</dc:language>
  <cp:lastModifiedBy>Mike</cp:lastModifiedBy>
  <dcterms:modified xsi:type="dcterms:W3CDTF">2007-10-12T19:09:53Z</dcterms:modified>
  <cp:revision>50</cp:revision>
  <dc:subject/>
  <dc:title>Programming With Graphical User Interfaces</dc:title>
</cp:coreProperties>
</file>